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DB18-D717-4D1E-9556-0A0F1EDB1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D376-161B-4493-AA0B-E729B868EB5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DB43-EB2B-4AEC-8C04-84FFD763822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E95F-4764-4385-9368-0FEEE7B957F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16BC-C833-466A-9070-A85166B5E2D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1C14-F3FF-4081-BAA0-666006F4AB6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5894-90BD-493F-9AD5-7010A549A36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CA4E-C95E-4308-8EB4-7829C8E4408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4F36-2472-4313-8787-D94AE001F5D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48A1-B5CD-4683-B6D3-247134B2085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77F7-2D02-4129-9268-EB5ABF1B08D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D978-DDB3-44B6-BEFE-5B4E1F6AD4B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D1B0-C245-496C-99D1-7263A5E6008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B658-CE5B-4767-B479-9F603D6AB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3F1B-DB52-461A-AC4A-4CDA615E7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B5ED-5780-4D6C-86F2-9218D3C40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6936-0084-45A1-982C-28BF0B3B5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4F19-BFDC-44CF-A7A5-FF98893C5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495C-43EB-4C0F-AF72-20937D4AA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6736-87A7-45E1-ADB1-4DFB5F113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CD07-6BC0-4722-A036-234D6B11B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CF74-D903-4862-9426-FC90FB1A2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E3B9-275B-41DD-9AB7-9B73313B6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E338-741C-423E-B8D3-C7D6B314C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5645-56C2-4496-8875-1086E4ED8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79AD-12F5-4E79-932F-87D5C782FD2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ssessingProject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ssessingproject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E:\Cantemir 1\GM__23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0120" y="411444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–Predarea în societatea cunoaşterii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5480" y="52574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valuarea proiectelor elevilor</a:t>
            </a:r>
            <a:endParaRPr b="0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1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4757-EBB5-4377-96D1-973C0726662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3</a:t>
            </a:r>
            <a:r>
              <a:rPr b="1" lang="ro-RO" sz="26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(5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Revizuirea produselor-model “ale elevilor”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31840" y="1785960"/>
            <a:ext cx="891216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1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: Rev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ederea notiţelor personale, precum şi a observaţiilor colegilor referitoare la activitatea dvs.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notiţele personale din activităţile anterioare pentru a identifica zonele care pot fi îmbunătăţit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2: Revi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zuirea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roduselor-model “ale elevilor”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zuiţi propriul produs-mode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siguraţi-vă că aţi răspuns la toate întrebări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fiş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Autoevaluarea produselor-model “ale elevilor” -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pentru propria satisfacţie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6FBC-D2A8-4F5F-A5EA-D66874755F5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2800"/>
            </a:br>
            <a:br>
              <a:rPr sz="28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4</a:t>
            </a:r>
            <a:r>
              <a:rPr b="1" lang="ro-RO" sz="26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(15 min.)</a:t>
            </a:r>
            <a:br>
              <a:rPr sz="16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zuirea 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Plan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ului unităţii de învăţare</a:t>
            </a:r>
            <a:r>
              <a:rPr b="0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5)</a:t>
            </a:r>
            <a:br>
              <a:rPr sz="1600"/>
            </a:b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7640" y="2045880"/>
            <a:ext cx="832140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Plan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ul u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ăţ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vs.de învăţare</a:t>
            </a:r>
            <a:r>
              <a:rPr b="0" lang="ro-RO" sz="1800" spc="-1" strike="noStrike">
                <a:solidFill>
                  <a:srgbClr val="0c2e8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inaliza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Rezumatul evaluăr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Lista de verificare a planului unităţ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pentru a vă monitoriza propriul progre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zu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mersul didactic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produselor-model “ale elevilor”, asupra evaluării, asupra secţiuni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mersul didactic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planul unităţ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,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pentru a depista obiectivele care încă nu sunt atins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deţ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lis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le dvs. referitoare la O.R./C.S.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la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ob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ective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, şi operaţi modificări, după cum este necesa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</a:t>
            </a:r>
            <a:r>
              <a:rPr b="1" lang="ro-RO" sz="2400" spc="-1" strike="noStrike">
                <a:solidFill>
                  <a:srgbClr val="0c2e86"/>
                </a:solidFill>
                <a:latin typeface="Arial"/>
              </a:rPr>
              <a:t>5</a:t>
            </a:r>
            <a:r>
              <a:rPr b="1" lang="ro-RO" sz="22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Arial"/>
              </a:rPr>
              <a:t>(15 min.)</a:t>
            </a:r>
            <a:br>
              <a:rPr sz="22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rea asupra propriei învăţări</a:t>
            </a:r>
            <a:r>
              <a:rPr b="0" lang="en-US" sz="2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1520" y="1371600"/>
            <a:ext cx="821700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Trecerea în revistă a modulul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P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uncte chei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Evaluarea ar trebui integrată întregului proiect şi să vizeze toate scopurile evaluări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Evaluarea centrată pe elev ar trebui să se axeze, atât pe conţinuturi, cât şi pe abilităţile necesare în secolul XXI, şi să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define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ască conţinuturile şi deprinderile î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n context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ul proiectulu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Tabelul de descriptori conţin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criterii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(col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oana din stânga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) 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-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are identifică obiectivel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şi 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descriptor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ii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(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oloana din dreapta)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 -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are descriu nivelul de performanţă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Folosirea evaluării sumative pentru stabilirea calităţii produselor şi a performanţe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La crearea sau modificarea unei evaluări aveţi în vedere următoarel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6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	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Rezolvaţi dvs. înşivă sarcina adresată elevilor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6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	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Asiguraţi-vă că criteriile dvs.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conduc la atingerea obiectivelor ţintite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6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Limit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aţi numărul de obiective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6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	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Cereţi opinia atât colegilor, dar şi elevilor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6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           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Scrieţi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 descriptor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ii într-un limbaj accesibil elevilor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6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	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Evitaţi termenii ambigu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5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	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Luaţi în calcul ordinea criteriilor dvs</a:t>
            </a:r>
            <a:r>
              <a:rPr b="0" lang="ro-RO" sz="15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Activit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tea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5</a:t>
            </a:r>
            <a:br>
              <a:rPr sz="24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rea asupra propriei învăţări</a:t>
            </a:r>
            <a:r>
              <a:rPr b="0" lang="en-US" sz="2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1640" y="1863360"/>
            <a:ext cx="826776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2: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Consemnarea experienţei de învăţare pe blog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, p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blog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-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personal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, asupr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activi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ţilo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prinderilor şi abordărilor vizate de acest mod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modului în care elementul centra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l acestu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modul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v-a folosit în planificarea şi crearea unităţii dvs.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um voi evalua învăţarea elevilo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um voi implica elevii în procesul de 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veţi în vedere modul în care cunoştinţele acumulate în cadrul acestui modul vă vor influenţa predarea şi implicit, învăţarea elevilo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aceţi referire l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lementele cheie ale învăţării, la eventuale întrebări şi aspecte ce mai trebuiesc lămurite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000"/>
            </a:br>
            <a:br>
              <a:rPr sz="900"/>
            </a:br>
            <a:r>
              <a:rPr b="1" lang="en-US" sz="9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Planificarea în avans a activităţii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Trecerea în revistă a propriilor produse-model “ale elevilor”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8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3080" y="1924200"/>
            <a:ext cx="8265960" cy="37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foldere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roduse-model “ale elevilor”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ţi ambele tipuri de produse personale, pe baz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scriptorilor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e la pagin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5.16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a întrebărilor de la pagina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5.18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ţi-vă produsul-model creat, folosind instrumentul de evaluare creat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acă aţi creat descriptor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încercuiţ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descriptor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ul c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reflect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el mai bine </a:t>
            </a:r>
            <a:br>
              <a:rPr sz="1400"/>
            </a:b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rodusul-mode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Continu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aţi încercuirea în funcţie de nivelul de performanţă relevat de produ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acă aţi creat un ghid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e scor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folosiţi-l pentru scorarea </a:t>
            </a:r>
            <a:br>
              <a:rPr sz="1400"/>
            </a:b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rodusului-mode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Notaţi-vă orice modificare necesară, fie pentru produsul-model, fie pentru instrumentul de evalu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57DD-35D3-48FF-84C4-2B495FCC1A2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Modulul 6: Proiectarea pentru obţinerea succesului în învăţ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52400" y="1190520"/>
          <a:ext cx="7405920" cy="4300560"/>
        </p:xfrm>
        <a:graphic>
          <a:graphicData uri="http://schemas.openxmlformats.org/drawingml/2006/table">
            <a:tbl>
              <a:tblPr/>
              <a:tblGrid>
                <a:gridCol w="2368800"/>
                <a:gridCol w="5037120"/>
              </a:tblGrid>
              <a:tr h="430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ul central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Sprijinirea elevului şi stimularea autonomiei în învăţ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zultate aşteptate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xplor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trateg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lo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nstru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diferen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at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nei evaluări pentru stimulare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utonomiei elevului în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material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o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port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el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lan</a:t>
                      </a:r>
                      <a:r>
                        <a:rPr b="0" i="1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ui</a:t>
                      </a:r>
                      <a:r>
                        <a:rPr b="0" i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Unit</a:t>
                      </a:r>
                      <a:r>
                        <a:rPr b="0" i="1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ăţii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a includ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e de susţinere a învăţării pentru toţi elev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flect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 asupra propriei învăţări p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blog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ul 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c2e86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13" descr="intelEDU_4c_lrg [Converted]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D:\danav\logo SVC\2007-03-05LogoSIVECO15aniCertif_Ro.jpg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B133-A8D9-48AC-9841-C110923ED1C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6" descr="_x0014_white-slideCraig.png                                           000009C9_x0008_PROJECTS                       00000000: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539F-D315-4939-8AC1-30156E06D6C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15" descr="D:\danav\Poze\2007-06 (iun.)-17\IM000069.JPG"/>
          <p:cNvPicPr/>
          <p:nvPr/>
        </p:nvPicPr>
        <p:blipFill>
          <a:blip r:embed="rId1"/>
          <a:stretch/>
        </p:blipFill>
        <p:spPr>
          <a:xfrm>
            <a:off x="4741920" y="1654200"/>
            <a:ext cx="4437000" cy="2925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885960"/>
            <a:ext cx="42670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evilor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3200" y="5370480"/>
            <a:ext cx="809964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203040"/>
            <a:ext cx="444168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  <a:ea typeface="Times New Roman"/>
              </a:rPr>
              <a:t>Unde ne află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1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edarea prin proiec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a bazată pe proiect şi designul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nităţii de 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2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area propriei u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nit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i de 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generatoare ale unităţii de învăţare şi evaluarea continuă centrată pe ele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3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alizarea conexiunil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net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 ca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uport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l predării şi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4: Cre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a unor </a:t>
            </a:r>
            <a:br>
              <a:rPr sz="1600"/>
            </a:b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duse-mode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le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dusel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levilor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(pre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nta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, publica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ţi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, wiki, blog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67D9-7680-47BF-B812-874A70CDE6D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3040" y="4441680"/>
            <a:ext cx="8607600" cy="161136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Întrebarea esenţial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se poate folosi, efectiv, tehnologia informaţie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entru a sprijini şi evalua învăţarea elevi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Întrebările modul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pot evalua învăţarea elevi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pot implica elevii în procesul de evalu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31840" y="598320"/>
          <a:ext cx="8607240" cy="3886200"/>
        </p:xfrm>
        <a:graphic>
          <a:graphicData uri="http://schemas.openxmlformats.org/drawingml/2006/table">
            <a:tbl>
              <a:tblPr/>
              <a:tblGrid>
                <a:gridCol w="2535120"/>
                <a:gridCol w="60721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5: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rea proiectelor elevi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valuarea formativă şi sumativ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2840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a</a:t>
                      </a:r>
                      <a:r>
                        <a:rPr b="1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Ob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ţinere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feedback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în scopul îmbunătăţirii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roduselor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el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elev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xplor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alităţilor de implicare a elevilor în procesul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utoevaluarea practicilor curente de evaluare folosite de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alizarea unui prim rezumat al evaluării pentru unitatea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a unei evaluări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mative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roduselor-model pentru elevi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 produselor-model pentru elevi, pe baza evaluării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mativ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 propriului plan al unităţii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flect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 asupra propriei învăţări pe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blog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ul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8E91-9185-4733-AA70-48D4A22FDD3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Rectangle 1036"/>
          <p:cNvSpPr/>
          <p:nvPr/>
        </p:nvSpPr>
        <p:spPr>
          <a:xfrm>
            <a:off x="174600" y="285840"/>
            <a:ext cx="8461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Către ce ne îndreptăm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1037"/>
          <p:cNvSpPr/>
          <p:nvPr/>
        </p:nvSpPr>
        <p:spPr>
          <a:xfrm>
            <a:off x="203040" y="1509840"/>
            <a:ext cx="4456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6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area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entru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ucces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 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în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e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prijinirea elevilor şi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timularea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utonomi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i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î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n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7: Facilit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cesului de predare –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-evaluare prin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mediul t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hnolog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ei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formaţie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facilitat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8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Prezentarea portofoliilor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Discutarea rezultatelor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769ed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769ed"/>
                </a:solidFill>
                <a:latin typeface="Verdana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1043" descr="E:\Cantemir 1\GM__2346.jpg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260280" y="4092480"/>
            <a:ext cx="43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2C6F-739C-4F65-82E9-7A36225EC58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659480" y="272880"/>
            <a:ext cx="4484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732200" y="2379600"/>
            <a:ext cx="4411800" cy="32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6" descr="E:\Cantemir 1\GM__2186.jpg"/>
          <p:cNvPicPr/>
          <p:nvPr/>
        </p:nvPicPr>
        <p:blipFill>
          <a:blip r:embed="rId1"/>
          <a:stretch/>
        </p:blipFill>
        <p:spPr>
          <a:xfrm>
            <a:off x="0" y="0"/>
            <a:ext cx="4700520" cy="6022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4732200" y="0"/>
            <a:ext cx="441180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0" lang="ro-RO" sz="11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0" lang="en-US" sz="11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Evaluarea proiectelor elevilor </a:t>
            </a:r>
            <a:br>
              <a:rPr sz="11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Lucru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l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 în perechi şi schimb de opinii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5 min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.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rea f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eedback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-ulu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în scopul îmbunătăţirii produselor-model “ale elevilor”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(5.01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716360" y="2825640"/>
            <a:ext cx="4427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769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scutaţi cu un coleg propriul produs-model creat pentru elev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c2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 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olicitaţi sugest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u priv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 la modul în care vă puteţi îmbunătăţi model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c2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 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fiş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Autoevaluarea produselor-model  “ale elevilor”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 la pagina 4.19 pentru a vă stabili repere</a:t>
            </a:r>
            <a:r>
              <a:rPr b="0" lang="ro-RO" sz="1800" spc="-1" strike="noStrike">
                <a:solidFill>
                  <a:srgbClr val="0c2e86"/>
                </a:solidFill>
                <a:latin typeface="Arial"/>
              </a:rPr>
              <a:t>le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în discuţi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CE75-9835-4B6D-BF35-56935E89096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1680" y="272520"/>
            <a:ext cx="8301240" cy="13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Practic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i p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edagogic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e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5 min)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Implicarea elevilor în procesul de evaluare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2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6080" y="1611360"/>
            <a:ext cx="82868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mpărţiţi-vă în grupur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brainstormingul pentru a alcătui o listă de probleme pe care profesorul le poate întâmpina atunci când implică elevii în procesul de 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crieţi ideile grupului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online: 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ADD UR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Treceţi în revistă şi ideile celorlalte grupuri şi discutaţi în grupul dvs. următoare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c2e8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Care dintre probleme vor fi pentru dvs. cel mai greu de depăşit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c2e8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Ce ar trebui să faceţi pentru a găsi rezolvări la acestea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9C18-723F-4808-9A68-233FC9076CA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920" y="30132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1</a:t>
            </a: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2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naliza strategiilor de evalu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6240" y="1785960"/>
            <a:ext cx="889776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Reflect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area asupra evaluării practicate la clasă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tipurilor de evaluare practicate la clas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2: Discu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tarea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ului evaluării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ccesaţi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0c2e86"/>
                </a:solidFill>
                <a:latin typeface="Verdana"/>
              </a:rPr>
              <a:t>®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Education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Assessing Project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descărcaţi u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n plan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e 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ssessingProjec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buton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Add note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au marcaţ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prin culoare, pentru a sublinia ideile pe care aţi dori să le folosiţi în planul dvs. de evaluare sau în evaluarea propriuzis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Discu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taţ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trebările de la pagini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5.06–5.07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7936-75A1-475B-9293-D1BB09018F4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2680" y="2872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2</a:t>
            </a: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oră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şi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3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Crearea strategiilor de evalu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4240" y="1625760"/>
            <a:ext cx="8969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Foc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alizarea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e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ropriul p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 de evaluare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ul unităţii de învăţare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revizuiţi-vă schiţa de l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ificarea evaluăr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Tabelul evaluăr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 scopul stabilirii şi descrierii instrumentelor/ tehnicilor de evaluare pe care le veţi folosi pe parcursul unităţ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onsultaţi ş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ul de evaluare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pe care l-aţi descărcat, şi pe care aţi făcut propriile marcaje şi aţi adăugat propriile notiţe, în timpul activităţii precedent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deţ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Lista de verificare a planului evaluăr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directo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Evaluare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Portfoli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u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Ad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ugaţi noi tehnici/ instrumente de evaluare în secţiune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ificarea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in p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ţii dvs. de învăţ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cepeţi lucrul l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Rezumatul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DC74-EFD5-4F19-8154-6A3203D430E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3880" y="33012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2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Crearea strategiilor de evalu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8640" y="1770120"/>
            <a:ext cx="8955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roiectarea evaluării produselor-model ale “elevilor”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5.0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9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Proiectaţi o evaluare 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sumativ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ă </a:t>
            </a:r>
            <a:r>
              <a:rPr b="0" lang="ro-RO" sz="2000" spc="-1" strike="noStrike">
                <a:solidFill>
                  <a:srgbClr val="0c2e86"/>
                </a:solidFill>
                <a:latin typeface="Arial"/>
              </a:rPr>
              <a:t>destinată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produselor-model “ale elevilor”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ţi în acest scop întrebările de la paginile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5.09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–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5.10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3: Crea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rea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unei evaluări a produselor-model “ale elevilor”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5.11–5.13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Treceţi în revistă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informaţia din 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aplica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ţia </a:t>
            </a:r>
            <a:r>
              <a:rPr b="0" i="1" lang="ro-RO" sz="2000" spc="-1" strike="noStrike">
                <a:solidFill>
                  <a:srgbClr val="0c2e86"/>
                </a:solidFill>
                <a:latin typeface="Verdana"/>
              </a:rPr>
              <a:t>Assessing</a:t>
            </a:r>
            <a:r>
              <a:rPr b="0" i="1" lang="en-US" sz="2000" spc="-1" strike="noStrike">
                <a:solidFill>
                  <a:srgbClr val="0c2e86"/>
                </a:solidFill>
                <a:latin typeface="Verdana"/>
              </a:rPr>
              <a:t> Projects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ţ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aplica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i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a </a:t>
            </a:r>
            <a:r>
              <a:rPr b="0" i="1" lang="en-US" sz="2000" spc="-1" strike="noStrike">
                <a:solidFill>
                  <a:srgbClr val="0c2e86"/>
                </a:solidFill>
                <a:latin typeface="Verdana"/>
              </a:rPr>
              <a:t>Assessing Projects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pentru a crea o evaluare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Vizitaţ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ssessingprojec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aceţi c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lic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pe tast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Ente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registraţi-vă dacă sunteţi nou venit p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sit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om</cp:lastModifiedBy>
  <cp:lastPrinted>2006-11-14T00:45:04Z</cp:lastPrinted>
  <dcterms:modified xsi:type="dcterms:W3CDTF">2007-08-18T05:09:05Z</dcterms:modified>
  <cp:revision>343</cp:revision>
  <dc:subject/>
  <dc:title>Presentation Title Goes Here</dc:title>
</cp:coreProperties>
</file>